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180D-80E2-4F29-8B6D-0B5C81C0F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C62A-8EA8-4322-80CA-21E29405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FB9-767F-47F6-8DC6-06FF47AF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19A6-6B07-4A2A-B7F8-C1329FAE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1C661-3C28-4D7B-B431-A3FF05F7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9FB-30AC-4742-98C0-8D4AA2C70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69F57-050B-4392-A728-52BA0ECB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9E864-1F7B-4016-AE02-1C2C1ACF9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68BD4-1D11-45D2-8819-AFEEBCDD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64F3-9209-4963-BD78-E9E2B373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DCC62-175E-4FE1-9E7F-06538151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52BC-9F18-4F07-8959-D6399C8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A5C2A-A0BC-4662-BE65-4FEEFC042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9E6B-B895-4E39-9E57-6E17D570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61F71-F90C-4901-8271-1EFB64FB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35E4-6422-416E-90CB-226061E43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8B1F7-0D14-419C-9C4D-9D1EA9280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659F-9D4E-4627-99A4-CFAFB6A1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33F6-DD3B-4E17-90BF-A2B7FEA7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158-A97B-4F3E-8E5E-B2A75712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59F7-67BD-4BA2-B558-8DBA9E8B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42A-8BEC-461B-BDCE-F6BE305B5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AC2B-8A53-4374-8A7E-4F723CF9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59C8-F525-4D2C-AF9C-C3B495D7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C9DD-7BF3-4F3C-8118-D98C7CCF419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92F7-D441-4359-A5C1-2A57FE0551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217240" y="1557360"/>
            <a:ext cx="476964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33"/>
                </a:solidFill>
                <a:latin typeface="Times New Roman"/>
              </a:rPr>
              <a:t>第二篇 医学原生动物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Times New Roman"/>
              </a:rPr>
              <a:t>Medical Protozoa</a:t>
            </a:r>
            <a:endParaRPr b="0" lang="en-US" sz="48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33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鱼艳荣</a:t>
            </a:r>
            <a:r>
              <a:rPr b="1" lang="en-US" sz="3600" spc="-1" strike="noStrike">
                <a:solidFill>
                  <a:srgbClr val="006633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2"/>
          <p:cNvSpPr/>
          <p:nvPr/>
        </p:nvSpPr>
        <p:spPr>
          <a:xfrm>
            <a:off x="900000" y="2708280"/>
            <a:ext cx="7488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眼虫门，动基体纲                      杜氏利什曼原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副基体门，毛滴纲                      阴道毛滴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后滴虫门，双滴纲                      蓝氏贾第鞭毛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611280" y="33336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b812f"/>
                </a:solidFill>
                <a:latin typeface="Arial"/>
              </a:rPr>
              <a:t>原虫分类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生动物界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900000" y="1773360"/>
            <a:ext cx="748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门，内阿米巴纲              溶组织内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阿米巴纲                 棘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900000" y="4149720"/>
            <a:ext cx="707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孢子虫门，球虫纲                       疟原虫，刚地弓形虫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透色动物门，异叶足纲                福氏耐格里阿米巴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873000" y="5157720"/>
            <a:ext cx="636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纤毛虫门，直口纲                              结肠小袋纤毛虫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000" y="1268280"/>
            <a:ext cx="849636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                     </a:t>
            </a:r>
            <a:r>
              <a:rPr b="0" lang="zh-CN" sz="3600" spc="-1" strike="noStrike">
                <a:solidFill>
                  <a:srgbClr val="006633"/>
                </a:solidFill>
                <a:latin typeface="Arial"/>
                <a:ea typeface="黑体"/>
              </a:rPr>
              <a:t>第六章  医学原生动物概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原生动物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z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是具有完整生理功能的</a:t>
            </a:r>
            <a:r>
              <a:rPr b="0" lang="zh-CN" sz="2800" spc="-1" strike="noStrike">
                <a:solidFill>
                  <a:srgbClr val="006633"/>
                </a:solidFill>
                <a:latin typeface="Arial"/>
                <a:ea typeface="黑体"/>
              </a:rPr>
              <a:t>单细胞真核生物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寄生于人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管腔、体液、组织或细胞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致病性或非致病性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原虫称为</a:t>
            </a:r>
            <a:r>
              <a:rPr b="1" lang="zh-CN" sz="2800" spc="-1" strike="noStrike">
                <a:solidFill>
                  <a:srgbClr val="006633"/>
                </a:solidFill>
                <a:latin typeface="Times New Roman"/>
              </a:rPr>
              <a:t>医学原虫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cal protozoa)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395280" y="83664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一、形态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692360" y="1700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、细胞质、细胞核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755640" y="24210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膜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被在虫体表面，又称表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900000" y="3141720"/>
            <a:ext cx="632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质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由基质、细胞器、内含物组成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900000" y="386064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华文中宋"/>
              </a:rPr>
              <a:t>）基质</a:t>
            </a:r>
            <a:r>
              <a:rPr b="1" i="1" lang="zh-CN" sz="2400" spc="-1" strike="noStrike">
                <a:solidFill>
                  <a:srgbClr val="000000"/>
                </a:solidFill>
                <a:latin typeface="Tahoma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外质       内质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 运动细胞器 ：    伪足   鞭毛   纤毛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内含物：伸缩泡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684360" y="620640"/>
            <a:ext cx="81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核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膜、核质、染色质、核仁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611280" y="249228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寄生在人体的原虫多为泡状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esicula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11280" y="3141720"/>
          <a:ext cx="7921440" cy="2519280"/>
        </p:xfrm>
        <a:graphic>
          <a:graphicData uri="http://schemas.openxmlformats.org/drawingml/2006/table">
            <a:tbl>
              <a:tblPr/>
              <a:tblGrid>
                <a:gridCol w="1087200"/>
                <a:gridCol w="3864240"/>
                <a:gridCol w="2970000"/>
              </a:tblGrid>
              <a:tr h="1069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        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泡状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sicular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　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质核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ompact nucleus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染色质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少，呈颗粒状，分布于核质和核膜内缘  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丰富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有一个粒状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常有一个以上的核仁</a:t>
                      </a:r>
                      <a:endParaRPr b="0" lang="en-US" sz="2200" spc="-1" strike="noStrike">
                        <a:solidFill>
                          <a:srgbClr val="ff33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67"/>
          <p:cNvSpPr/>
          <p:nvPr/>
        </p:nvSpPr>
        <p:spPr>
          <a:xfrm>
            <a:off x="395280" y="126828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核内的染色质和核仁，是生存、繁殖的遗传物质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11280" y="476280"/>
            <a:ext cx="38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二、生理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684360" y="12682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spcBef>
                <a:spcPts val="1125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运动　通过伪足的伸缩、鞭毛或纤毛的摆动而运动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755640" y="2133720"/>
            <a:ext cx="7715160" cy="33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营养　通过表膜直接渗透、胞饮或吞噬摄取营养；有些原虫通过胞口摄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代谢　复杂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血液内   分解葡萄糖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571680" indent="-571680">
              <a:lnSpc>
                <a:spcPct val="12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肠道内   糖酵解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3"/>
          <p:cNvGrpSpPr/>
          <p:nvPr/>
        </p:nvGrpSpPr>
        <p:grpSpPr>
          <a:xfrm>
            <a:off x="1000080" y="1143000"/>
            <a:ext cx="7740720" cy="3699720"/>
            <a:chOff x="1000080" y="1143000"/>
            <a:chExt cx="7740720" cy="3699720"/>
          </a:xfrm>
        </p:grpSpPr>
        <p:sp>
          <p:nvSpPr>
            <p:cNvPr id="101" name="Text Box 3"/>
            <p:cNvSpPr/>
            <p:nvPr/>
          </p:nvSpPr>
          <p:spPr>
            <a:xfrm>
              <a:off x="1000080" y="1861920"/>
              <a:ext cx="1511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无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2" name="Text Box 4"/>
            <p:cNvSpPr/>
            <p:nvPr/>
          </p:nvSpPr>
          <p:spPr>
            <a:xfrm>
              <a:off x="1000080" y="395100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有性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3" name="Text Box 5"/>
            <p:cNvSpPr/>
            <p:nvPr/>
          </p:nvSpPr>
          <p:spPr>
            <a:xfrm>
              <a:off x="2641680" y="114300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二分裂：利什曼原虫无鞭毛体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4" name="Text Box 6"/>
            <p:cNvSpPr/>
            <p:nvPr/>
          </p:nvSpPr>
          <p:spPr>
            <a:xfrm>
              <a:off x="2641680" y="1822320"/>
              <a:ext cx="512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多分裂：疟原虫红内期裂体生殖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5" name="Text Box 7"/>
            <p:cNvSpPr/>
            <p:nvPr/>
          </p:nvSpPr>
          <p:spPr>
            <a:xfrm>
              <a:off x="2641680" y="2417760"/>
              <a:ext cx="609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芽殖：弓形虫滋养体内二分裂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6" name="AutoShape 8"/>
            <p:cNvSpPr/>
            <p:nvPr/>
          </p:nvSpPr>
          <p:spPr>
            <a:xfrm>
              <a:off x="2355840" y="1312920"/>
              <a:ext cx="379440" cy="1614240"/>
            </a:xfrm>
            <a:custGeom>
              <a:avLst/>
              <a:gdLst>
                <a:gd name="textAreaLeft" fmla="*/ 242640 w 379440"/>
                <a:gd name="textAreaRight" fmla="*/ 379800 w 379440"/>
                <a:gd name="textAreaTop" fmla="*/ 41760 h 1614240"/>
                <a:gd name="textAreaBottom" fmla="*/ 1572480 h 161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7" name="Text Box 9"/>
            <p:cNvSpPr/>
            <p:nvPr/>
          </p:nvSpPr>
          <p:spPr>
            <a:xfrm>
              <a:off x="2441520" y="3662280"/>
              <a:ext cx="302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配子生殖：疟原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8" name="Text Box 10"/>
            <p:cNvSpPr/>
            <p:nvPr/>
          </p:nvSpPr>
          <p:spPr>
            <a:xfrm>
              <a:off x="2441520" y="4383000"/>
              <a:ext cx="4000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结合生殖：结肠小袋纤毛虫</a:t>
              </a:r>
              <a:endParaRPr b="0" lang="en-US" sz="2400" spc="-1" strike="noStrike">
                <a:solidFill>
                  <a:srgbClr val="ff3300"/>
                </a:solidFill>
                <a:latin typeface="Arial"/>
              </a:endParaRPr>
            </a:p>
          </p:txBody>
        </p:sp>
        <p:sp>
          <p:nvSpPr>
            <p:cNvPr id="109" name="AutoShape 11"/>
            <p:cNvSpPr/>
            <p:nvPr/>
          </p:nvSpPr>
          <p:spPr>
            <a:xfrm>
              <a:off x="2355840" y="3778200"/>
              <a:ext cx="93600" cy="934920"/>
            </a:xfrm>
            <a:custGeom>
              <a:avLst/>
              <a:gdLst>
                <a:gd name="textAreaLeft" fmla="*/ 59760 w 93600"/>
                <a:gd name="textAreaRight" fmla="*/ 93960 w 93600"/>
                <a:gd name="textAreaTop" fmla="*/ 24120 h 934920"/>
                <a:gd name="textAreaBottom" fmla="*/ 910800 h 93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3300"/>
                </a:solidFill>
                <a:latin typeface="Arial"/>
              </a:endParaRPr>
            </a:p>
          </p:txBody>
        </p:sp>
      </p:grpSp>
      <p:sp>
        <p:nvSpPr>
          <p:cNvPr id="110" name="Rectangle 12"/>
          <p:cNvSpPr/>
          <p:nvPr/>
        </p:nvSpPr>
        <p:spPr>
          <a:xfrm>
            <a:off x="1142280" y="428760"/>
            <a:ext cx="16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生殖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　</a:t>
            </a:r>
            <a:endParaRPr b="0" lang="en-US" sz="32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1" name="TextBox 12"/>
          <p:cNvSpPr/>
          <p:nvPr/>
        </p:nvSpPr>
        <p:spPr>
          <a:xfrm>
            <a:off x="928800" y="5072040"/>
            <a:ext cx="77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世代交替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ernation of generation)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：生活史中存在有性和无性两种交替的增殖方式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如疟原虫和弓形虫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611280" y="1268280"/>
            <a:ext cx="8064360" cy="35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滋养体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ophozoit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活动、摄食、生殖阶段     致病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包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、卵囊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ocys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静止期      传播阶段</a:t>
            </a: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际传播型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生活史只需要一个宿主，通过接触或传播媒介的机械携带在人与人之间传播。 </a:t>
            </a:r>
            <a:endParaRPr b="0" lang="en-US" sz="28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如：阴道毛滴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 marL="457200" indent="-457200"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684360" y="404640"/>
            <a:ext cx="457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33"/>
                </a:solidFill>
                <a:latin typeface="Times New Roman"/>
              </a:rPr>
              <a:t>三、 生活史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9280" y="47592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人与动物间</a:t>
            </a:r>
            <a:r>
              <a:rPr b="1" lang="zh-CN" sz="2800" spc="-1" strike="noStrike">
                <a:solidFill>
                  <a:srgbClr val="996600"/>
                </a:solidFill>
                <a:latin typeface="Arial"/>
              </a:rPr>
              <a:t>传播型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生活史需要一种以上的脊椎动物，分别作为其终宿主和中间宿主，感染阶段可在二者之间传播，主要经口感染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：刚地弓形虫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虫媒传播型</a:t>
            </a:r>
            <a:r>
              <a:rPr b="1" lang="zh-CN" sz="2800" spc="-1" strike="noStrike">
                <a:solidFill>
                  <a:srgbClr val="996600"/>
                </a:solidFill>
                <a:latin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活史中原虫需在吸血昆虫体内发育、进行有性或无性生殖。寄生原虫通过媒介昆虫叮咬而传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3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如蚊传播疟原虫。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026"/>
          <p:cNvSpPr/>
          <p:nvPr/>
        </p:nvSpPr>
        <p:spPr>
          <a:xfrm>
            <a:off x="611280" y="33336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b812f"/>
                </a:solidFill>
                <a:latin typeface="Times New Roman"/>
              </a:rPr>
              <a:t>四、 致病</a:t>
            </a:r>
            <a:endParaRPr b="0" lang="en-US" sz="36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6" name="Rectangle 1027"/>
          <p:cNvSpPr/>
          <p:nvPr/>
        </p:nvSpPr>
        <p:spPr>
          <a:xfrm>
            <a:off x="971640" y="2781360"/>
            <a:ext cx="741672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增殖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疟原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播散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溶组织内阿米巴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机会致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刚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弓形虫，隐孢子虫</a:t>
            </a: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3300"/>
              </a:solidFill>
              <a:latin typeface="Arial"/>
            </a:endParaRPr>
          </a:p>
        </p:txBody>
      </p:sp>
      <p:sp>
        <p:nvSpPr>
          <p:cNvPr id="117" name="Text Box 1028"/>
          <p:cNvSpPr/>
          <p:nvPr/>
        </p:nvSpPr>
        <p:spPr>
          <a:xfrm>
            <a:off x="755640" y="1341360"/>
            <a:ext cx="71103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原虫的种株、毒力、数量、寄生部位、其他致病因素以及宿主免疫状态有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ff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鱼艳荣</dc:creator>
  <dc:description/>
  <dc:language>en-US</dc:language>
  <cp:lastModifiedBy>hzg</cp:lastModifiedBy>
  <dcterms:modified xsi:type="dcterms:W3CDTF">2015-10-05T09:45:15Z</dcterms:modified>
  <cp:revision>401</cp:revision>
  <dc:subject/>
  <dc:title>PowerPoint Presentation</dc:title>
</cp:coreProperties>
</file>